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0C4-4E48-46AF-8944-D1373FA2ED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103-3DC4-4D98-B91A-5D290FABA5D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C8D-108C-4ED0-9307-8A357152954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C68F-E732-4B78-8BE4-47E0ED40D2F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F0E1-8F75-4C45-9E47-1D54D68115C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990-577E-4331-BA15-A0C9567FE11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433-9603-4B63-A4F0-50B3C39609C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C2D-B2DC-431A-95AA-3803406F086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2A1A-DE04-4384-BBED-EBE97A38650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5BD-0A64-48CB-926A-E674B88466A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EF9-C11F-46BA-80BC-5B64B558A78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EBCA-5C3E-41BA-A6B6-2DB3B59BEC5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2410-939B-4D55-9006-B1694314E39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53EB-4466-478A-A2AB-0B6BFF2A6B2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F411-FAC2-4982-8E72-4CFFB07141BC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B1A-E6F9-4112-89CE-D5FE6F341B8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66EA-C7DF-4B22-AB78-632E646D2F4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295-0AB0-41FB-9CB6-F6BCD9E0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453-99EA-4893-A6BA-83BEFF9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7BE-2DE1-437E-B6C1-E83154DD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784-E894-49AE-B6C5-C96DAA89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02A3-66EF-445B-B71E-C74C5D8B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B449-FA64-4D2A-BC04-4965B35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8AFA-6302-43C7-A485-81092479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7DA-8353-46DC-B0AC-A4965C6C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161C-033C-4424-A518-2929E9EC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0A54-BF16-4364-B539-7C188013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DBE8-4D3C-42F8-A0F9-539DDF0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75B-385A-473A-95D8-151E3F0C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6F13-214C-4402-B6D2-7035CCFD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3A4A-1623-435F-A75F-79096DD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5C07-D5F1-4DF0-A3BC-5952BA07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EAE0-0BE2-4E70-AE97-D0C42CC1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4E4-1352-4536-AEDC-91DB4E73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747-E6AB-4AFB-A215-11E4E16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344-0D27-4626-94D7-D145BE61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AC7-1424-4156-933A-A17D8C16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2EF-1192-4543-94BF-62ECBFE9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93C-53BB-4538-8A49-ED4D24BC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A0B-A3F2-44DB-A71A-DE905CC8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E64-2E97-45AC-AAB4-8B7F708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2F0-CFE7-4EA7-8992-323B23C6213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D0B-7778-4118-AB4F-056FC465DDA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Dirt, hygiene, defec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52480" y="0"/>
            <a:ext cx="5867640" cy="8839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193840" y="29908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m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82052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586728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380880" y="11160"/>
            <a:ext cx="9905760" cy="683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897840" y="32400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t little baby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love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 unknown person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cow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to who? (ctd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y neighbor’s dog to 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do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dog to a child (Turkana exam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: undesired intimacy (cf. sexual harassmen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rts of hygie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dic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r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us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ygie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esthetics, not microbes” (Kru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Why is study of defecation relevant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eryday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idden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ncultur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ature / Nurture (“nature’s call”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oretical relevance (window on cultur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ation to health (regular, normal sto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agnostic val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evance to public heal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Quotatio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 …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derlying motivations for domestic hygiene … lie not in the avoidance of specific diseases, but in subtler social forc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d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hygiene is a complex idea that embodies a number of social values, clarity has often been missing, both in the understanding of how hygiene relates to health, and in the conception and execution of hygiene education programme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Valerie Curtis 1998: 1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rt: disord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the evidence of the imperfections of life.” (MacLaughlin in Curtis 1998: 13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rt is matter out of place.” (Douglas 1966) i.e. dirt is an invitation to restore order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othing is dirt by itself; its use and place make it dirty…. But what about (human) feces???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atter out of pla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ltural reasons (e.g. right/left hand, dress, spitting, grasshoppers, hand in food…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al reasons: who does what to wh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 understand the social dimension: let us take the example of defecation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975240" y="54514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nglades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457200" y="17136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71600" y="-685800"/>
            <a:ext cx="6338880" cy="8381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228600"/>
            <a:ext cx="18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eny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90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050840" y="17604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pal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2:06:35Z</dcterms:created>
  <dc:creator>BU</dc:creator>
  <dc:description/>
  <dc:language>en-US</dc:language>
  <cp:lastModifiedBy>Owner</cp:lastModifiedBy>
  <dcterms:modified xsi:type="dcterms:W3CDTF">2013-11-18T12:50:44Z</dcterms:modified>
  <cp:revision>7</cp:revision>
  <dc:subject/>
  <dc:title>Dirt, hygiene, defecation</dc:title>
</cp:coreProperties>
</file>